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3CE76-B10B-4CC1-B54D-F21F3865E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E4C09-7A0D-4BB0-B120-D80A089EF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4B611-8831-4989-9B86-C8A1F8064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BB65A-F3A4-40FA-B22D-730085D27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3D25D-6DEF-4A1C-A9CF-C3E42961A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DB6B9-D26D-4776-9FC4-E6E73864E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D92AB-5B97-457D-A963-28E2FE1E7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CC220-B712-480A-8311-953304F87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7F0D7-E45A-4B1A-A042-522F4E5FC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40BA0-1A79-4B5A-9D30-F2F1F9569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24F5F-836F-4400-B6F6-D6E3A30CD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3201E-4D8C-4CA6-AAD4-4D65642FB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898B1-82D7-4F60-933A-F99E2D763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60419-C810-4F2B-B0ED-B79856102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8A996-621E-4C7C-9335-18338B8AF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FEAFA-84C9-45E6-A0B5-7D13D3EA3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2FC54-592D-4F91-8956-4B614A916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84A8F-53CF-4517-A807-9D1F96299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4E22A-6A9B-43E0-8AC9-C94077F87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1343B-07F7-4FC6-90ED-EA6232BA5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39E95-09FF-4AE5-9B52-53B7298DE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B9C5E-D122-4BBD-BAAD-D3AC04A62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179DA-6D9D-4CA2-82D4-582E60C9A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C05A2-F7E9-4DAC-BAA3-2C63F7CD5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920" y="1636560"/>
            <a:ext cx="9148680" cy="4618080"/>
            <a:chOff x="-7920" y="1636560"/>
            <a:chExt cx="9148680" cy="4618080"/>
          </a:xfrm>
        </p:grpSpPr>
        <p:pic>
          <p:nvPicPr>
            <p:cNvPr id="1" name="Picture 3" descr="D:\FRONTPAGE THEMES\ARTSY\ARTHSEPA.PNG"/>
            <p:cNvPicPr/>
            <p:nvPr/>
          </p:nvPicPr>
          <p:blipFill>
            <a:blip r:embed="rId3"/>
            <a:stretch/>
          </p:blipFill>
          <p:spPr>
            <a:xfrm>
              <a:off x="5997600" y="6180120"/>
              <a:ext cx="3143160" cy="7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Picture 4" descr="P:\!Themes\Artsy\Arthsepa.gif"/>
            <p:cNvPicPr/>
            <p:nvPr/>
          </p:nvPicPr>
          <p:blipFill>
            <a:blip r:embed="rId4"/>
            <a:stretch/>
          </p:blipFill>
          <p:spPr>
            <a:xfrm>
              <a:off x="-7920" y="1636560"/>
              <a:ext cx="449568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10848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14580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ABE08-3A98-492F-8F87-9683635D45B3}" type="slidenum">
              <a:rPr b="0" lang="en-US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9144000" cy="3365640"/>
            <a:chOff x="0" y="0"/>
            <a:chExt cx="9144000" cy="3365640"/>
          </a:xfrm>
        </p:grpSpPr>
        <p:pic>
          <p:nvPicPr>
            <p:cNvPr id="45" name="Picture 3" descr="D:\FRONTPAGE THEMES\ARTSY\ARTBANNA.PNG"/>
            <p:cNvPicPr/>
            <p:nvPr/>
          </p:nvPicPr>
          <p:blipFill>
            <a:blip r:embed="rId3"/>
            <a:srcRect l="8126" t="0" r="0" b="0"/>
            <a:stretch/>
          </p:blipFill>
          <p:spPr>
            <a:xfrm>
              <a:off x="0" y="0"/>
              <a:ext cx="91440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Picture 4" descr="P:\!Themes\Artsy\Arthsepa.gif"/>
            <p:cNvPicPr/>
            <p:nvPr/>
          </p:nvPicPr>
          <p:blipFill>
            <a:blip r:embed="rId4"/>
            <a:stretch/>
          </p:blipFill>
          <p:spPr>
            <a:xfrm>
              <a:off x="4267080" y="3268800"/>
              <a:ext cx="449604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335916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601956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125280" y="6361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791FB-B835-4AB2-AE8A-8F8AF3EF521A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The Way We Are…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685600" y="3492000"/>
            <a:ext cx="610236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Demographic Look at what makes Americans the same and Different (Wilson 4 and 5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Political Ideology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28320" y="1941480"/>
            <a:ext cx="8815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et of beliefs about politics and public policy that creates the structure for looking at government and public policy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18960" indent="-318960">
              <a:spcBef>
                <a:spcPts val="64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Radical – </a:t>
            </a:r>
            <a:r>
              <a:rPr b="0" lang="en-US" sz="2600" spc="-1" strike="noStrike">
                <a:solidFill>
                  <a:srgbClr val="ffffcc"/>
                </a:solidFill>
                <a:latin typeface="Arial"/>
              </a:rPr>
              <a:t>rapid, fundamental change to existing order</a:t>
            </a:r>
            <a:endParaRPr b="0" lang="en-US" sz="2600" spc="-1" strike="noStrike">
              <a:solidFill>
                <a:srgbClr val="ffffcc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Liberal – supports active government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Moderate – takes bits of liberal and conservativ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Conservative – supports limited government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Reactionary – return to previous state of affair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ulture War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28320" y="1941120"/>
            <a:ext cx="881532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Orthodox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Morality over self-expression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Thinks morals need to remain the sam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Progressiv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Personal freedom over traditional rule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Think morals need to change with the time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Not just right vs. left (often fights within constituent groups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Fault Line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28320" y="1941120"/>
            <a:ext cx="881532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Media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Becoming the “baby sitter”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Availability of unmoral example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Mistrust in Governmen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Little confidence in helping, more likely to hurt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Fault Line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28320" y="1941120"/>
            <a:ext cx="881532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Political Efficacy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Internal – Understand political affair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Remains steady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External – Ability to make it work for you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Has decreased since the 1970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Political Toleranc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How tolerant are you?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2008 Electoral College Map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17" name="Picture 5" descr=""/>
          <p:cNvPicPr/>
          <p:nvPr/>
        </p:nvPicPr>
        <p:blipFill>
          <a:blip r:embed="rId2"/>
          <a:stretch/>
        </p:blipFill>
        <p:spPr>
          <a:xfrm>
            <a:off x="0" y="1066680"/>
            <a:ext cx="9144000" cy="579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2008 Election Map by County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19" name="Picture 8" descr=""/>
          <p:cNvPicPr/>
          <p:nvPr/>
        </p:nvPicPr>
        <p:blipFill>
          <a:blip r:embed="rId2"/>
          <a:stretch/>
        </p:blipFill>
        <p:spPr>
          <a:xfrm>
            <a:off x="0" y="1206360"/>
            <a:ext cx="9144000" cy="565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2008 Election Map by % won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21" name="Picture 5" descr=""/>
          <p:cNvPicPr/>
          <p:nvPr/>
        </p:nvPicPr>
        <p:blipFill>
          <a:blip r:embed="rId2"/>
          <a:stretch/>
        </p:blipFill>
        <p:spPr>
          <a:xfrm>
            <a:off x="0" y="1295280"/>
            <a:ext cx="911844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2008 Primary Election Map (Dem)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23" name="Picture 4" descr=""/>
          <p:cNvPicPr/>
          <p:nvPr/>
        </p:nvPicPr>
        <p:blipFill>
          <a:blip r:embed="rId2"/>
          <a:srcRect l="0" t="0" r="18999" b="0"/>
          <a:stretch/>
        </p:blipFill>
        <p:spPr>
          <a:xfrm>
            <a:off x="0" y="888840"/>
            <a:ext cx="9144000" cy="596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Political Cultur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et of basic values and beliefs about the country or government that is shared by most citizen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Wilson believes it is a balance between…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Political / Social belief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Economic belief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Ideology (a consistent set of personal beliefs) should not be confused with Political Culture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Political Cultur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American Democratic Values (common to all):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Majority/minority right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Equality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Private Property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Individual Freedom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Compromis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Limited Government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Political Socialization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600" y="19414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All of these influence the creation of a political identity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Family and home influence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chooling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Group Affiliation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Demographic factor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Mass Media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Opinion leader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Event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17160" y="782280"/>
            <a:ext cx="8637480" cy="70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Ways that color our view of the world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5960" y="1941120"/>
            <a:ext cx="386244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Over 65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Under 30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Mal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emal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atholic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Protestan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Jewish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Mormon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2462040" y="1941480"/>
            <a:ext cx="3862440" cy="453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Muslim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H.S. Gra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ollege Gra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Blue Collar job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White Collar job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Union job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African-American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Latino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" name="Rectangle 5"/>
          <p:cNvSpPr/>
          <p:nvPr/>
        </p:nvSpPr>
        <p:spPr>
          <a:xfrm>
            <a:off x="6324480" y="1941480"/>
            <a:ext cx="2819520" cy="453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Asia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Northeas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Gulf Coas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Midwes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Mt. Wes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West Coas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iti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Rura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17160" y="38052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Patriotism (2011)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28320" y="1295280"/>
            <a:ext cx="8815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-267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Extremely proud to be an American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62%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267480" indent="-267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Very proud to be an American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25%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267480" indent="-267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Little proud or not proud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1%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267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marL="267480" indent="-267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What is patriotic?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579240" indent="-222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Pledge 70%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579240" indent="-222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Working hard 62%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579240" indent="-222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Volunteering 61%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579240" indent="-222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Paying taxes 61%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579240" indent="-222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Accepting what officials say 11%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Economic Equality (2011)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Government needs to help poor (25%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Hard work guarantees success (74%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Government should guarantee basic needs (75%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auses of poverty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Lack of effort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32%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Circumstances beyond control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49%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Religion (1991)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28320" y="1941480"/>
            <a:ext cx="8815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I never doubt existence of God (60%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Prayer is an important part of my life (77%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ear distinction between good and evil (79%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All Highest in the Industrial World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82% Americans are “religious people”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Yet 40% claim to attend weekly service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Religion (2011)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28320" y="1941480"/>
            <a:ext cx="8815320" cy="423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Americans…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Believe in God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92%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Pray daily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58%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Go to church at least once a month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54%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1T13:41:20Z</dcterms:created>
  <dc:creator>Brent J. Freccia</dc:creator>
  <dc:description/>
  <dc:language>en-US</dc:language>
  <cp:lastModifiedBy>Authorized User</cp:lastModifiedBy>
  <dcterms:modified xsi:type="dcterms:W3CDTF">2011-10-12T13:32:47Z</dcterms:modified>
  <cp:revision>6</cp:revision>
  <dc:subject/>
  <dc:title>Political Culture</dc:title>
</cp:coreProperties>
</file>